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574-7B73-40A5-ADD8-7B50F874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1D1-AF2D-4708-B40F-61E71CD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F24-89E4-4602-8CA0-A8A4B846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690-B9CA-4405-91FA-EB5F396F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025-218A-42B9-834C-5021DCF1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C1A-138E-427A-BAB6-86DF6E56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CF7-769C-405C-9C17-4286E3E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5FE-9AB9-4EFD-BB5E-D540115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653-BC99-44D0-BFCD-ACB3DFB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9F0-84EB-4A07-A686-710F453B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482-16B7-4EAA-BEDF-C998805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02-1298-4775-85A2-CDF313B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8B8F-9C2D-4DB6-A251-EF63E31F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491000" cy="103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114280" cy="60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586764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647676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914400"/>
            <a:ext cx="7617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600200"/>
            <a:ext cx="2819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97180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77724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077320" cy="200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91320" y="68580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219320"/>
            <a:ext cx="6019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305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2960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914400"/>
            <a:ext cx="1600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752480"/>
            <a:ext cx="3962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91120" cy="670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342900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181480"/>
            <a:ext cx="22860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22:13Z</dcterms:created>
  <dc:creator>grahams</dc:creator>
  <dc:description/>
  <dc:language>en-US</dc:language>
  <cp:lastModifiedBy>grahams</cp:lastModifiedBy>
  <dcterms:modified xsi:type="dcterms:W3CDTF">2012-03-22T12:53:05Z</dcterms:modified>
  <cp:revision>2</cp:revision>
  <dc:subject/>
  <dc:title>Slide 1</dc:title>
</cp:coreProperties>
</file>